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833731"/>
        <c:axId val="83448548"/>
      </c:barChart>
      <c:catAx>
        <c:axId val="738337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448548"/>
        <c:crosses val="autoZero"/>
        <c:auto val="1"/>
        <c:lblAlgn val="ctr"/>
        <c:lblOffset val="100"/>
        <c:noMultiLvlLbl val="0"/>
      </c:catAx>
      <c:valAx>
        <c:axId val="834485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337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636F-E591-49D0-9E36-F7318B4A4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59D5-C78E-463B-A780-2848311E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F459-CF9E-4B14-822D-FB457640C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67A7-30EF-49A0-9388-FDFE7002A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CC2F-8763-44EB-B569-A77CE046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E37A-73EF-4D25-974F-FC059945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3403-A385-4716-9F14-C4BE59DE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7829-FE80-4986-B168-FD699971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9FA6-F217-4C53-8AA6-EC263779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FA98-D9D9-4852-B906-03D3C294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5335-DC71-4CEF-A38A-BA968FE8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4881-A89B-43BA-888B-1FEB923A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E216B-EE15-46B7-9A9A-5C9DFB42F3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