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25391"/>
        <c:axId val="85014623"/>
      </c:barChart>
      <c:catAx>
        <c:axId val="58325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4623"/>
        <c:crosses val="autoZero"/>
        <c:auto val="1"/>
        <c:lblAlgn val="ctr"/>
        <c:lblOffset val="100"/>
        <c:noMultiLvlLbl val="0"/>
      </c:catAx>
      <c:valAx>
        <c:axId val="85014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25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4A6-993E-432A-B4E5-76E9F882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97D-F0D9-4180-89CD-50C88834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3E7-77B9-4114-B823-65EC8721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342-CC86-400D-A22A-45267D84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638-8649-490E-B98C-04384289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4F5-416D-49EB-9A71-E7B76666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2F4-D517-41AE-B309-FE507B2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646-F0AC-4967-B4AD-B478290F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BE3-7343-421A-BE9C-4F4BFE57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767-DAB3-4590-8B3D-EBBE5825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DCD-BBE7-40D3-A0AD-F4FB1A8A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474-9587-4F1E-A914-7AEF12E0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90C69-4AC1-469F-BFE1-C076663AB8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